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1339513" cy="6886575"/>
  <p:notesSz cx="123444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23444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534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6993000" y="0"/>
            <a:ext cx="5348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6948000"/>
            <a:ext cx="5349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6993000" y="6948000"/>
            <a:ext cx="5348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4BC-E4BA-4239-B260-2F715952D907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 around the name textbox will disappear once you replace the placehol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993000" y="6948360"/>
            <a:ext cx="5348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1DE-A90A-4407-9E3D-5DCE79E59FAE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76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6856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0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176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46856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54360" y="4884840"/>
            <a:ext cx="46087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76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856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70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176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46856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54360" y="4884840"/>
            <a:ext cx="46087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" name="Picture 9" descr="Teamwork"/>
          <p:cNvPicPr/>
          <p:nvPr/>
        </p:nvPicPr>
        <p:blipFill>
          <a:blip r:embed="rId2"/>
          <a:stretch/>
        </p:blipFill>
        <p:spPr>
          <a:xfrm>
            <a:off x="270000" y="131760"/>
            <a:ext cx="10909080" cy="662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Teamwork"/>
          <p:cNvPicPr/>
          <p:nvPr/>
        </p:nvPicPr>
        <p:blipFill>
          <a:blip r:embed="rId2"/>
          <a:stretch/>
        </p:blipFill>
        <p:spPr>
          <a:xfrm>
            <a:off x="270000" y="131760"/>
            <a:ext cx="10909080" cy="66229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teamwork-fr.jpg"/>
          <p:cNvPicPr/>
          <p:nvPr/>
        </p:nvPicPr>
        <p:blipFill>
          <a:blip r:embed="rId3"/>
          <a:stretch/>
        </p:blipFill>
        <p:spPr>
          <a:xfrm>
            <a:off x="266760" y="123840"/>
            <a:ext cx="10912320" cy="663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8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02360" y="4835520"/>
            <a:ext cx="3960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  <a:ea typeface="ＭＳ Ｐゴシック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2360" y="15717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02360" y="4871520"/>
            <a:ext cx="3960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  <a:ea typeface="ＭＳ Ｐゴシック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2360" y="15717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48:41Z</dcterms:created>
  <dc:creator>The Wynford Group Inc.</dc:creator>
  <dc:description/>
  <dc:language>en-US</dc:language>
  <cp:lastModifiedBy>Abe Lee</cp:lastModifiedBy>
  <dcterms:modified xsi:type="dcterms:W3CDTF">2017-09-20T16:46:09Z</dcterms:modified>
  <cp:revision>16</cp:revision>
  <dc:subject/>
  <dc:title>Slide 1</dc:title>
</cp:coreProperties>
</file>