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1339513" cy="6886575"/>
  <p:notesSz cx="123444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123444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534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6993000" y="0"/>
            <a:ext cx="5348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948000"/>
            <a:ext cx="5349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6993000" y="6948000"/>
            <a:ext cx="5348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35A-B5A7-4EB4-ACBA-4274EA70F4A0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 around the name textbox will disappear once you replace the placehol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993000" y="6948360"/>
            <a:ext cx="5348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41B-6835-45B9-850F-740DC1B848F7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76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6856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0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176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46856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54360" y="4884840"/>
            <a:ext cx="46087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" name="Picture 9" descr="respect"/>
          <p:cNvPicPr/>
          <p:nvPr/>
        </p:nvPicPr>
        <p:blipFill>
          <a:blip r:embed="rId2"/>
          <a:stretch/>
        </p:blipFill>
        <p:spPr>
          <a:xfrm>
            <a:off x="233280" y="131760"/>
            <a:ext cx="10909440" cy="662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65640" y="4835520"/>
            <a:ext cx="3960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86000" y="15717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48:41Z</dcterms:created>
  <dc:creator>The Wynford Group Inc.</dc:creator>
  <dc:description/>
  <dc:language>en-US</dc:language>
  <cp:lastModifiedBy>Abe Lee</cp:lastModifiedBy>
  <dcterms:modified xsi:type="dcterms:W3CDTF">2017-09-20T16:51:08Z</dcterms:modified>
  <cp:revision>14</cp:revision>
  <dc:subject/>
  <dc:title>Slide 1</dc:title>
</cp:coreProperties>
</file>